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F62E-BE0F-4D9B-9C07-116DF5A67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4B6D-42D1-49AE-B297-01A60991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220B-0C02-44A0-9FD4-1B28A7277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5FCB-3854-4B81-8DAB-0844BB20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A955-35F1-476B-8C2A-3A3C3CE6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A465-9208-49A3-AB65-BA656AFA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45BB-CC9C-4C68-84EF-A9DC5E03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9415-8033-456A-B505-2B07396E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113F-9F4B-4E8E-A4C8-C5CA0428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4330-02BC-43FA-98A7-387C53A4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5C58-6972-42B3-B795-8CF76D31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33B2-0996-4A20-B914-582C2E99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312B-D101-4810-9C15-D7E6E25DF20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01</a:t>
            </a:r>
            <a:r>
              <a:rPr b="0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Keď svit slnka stráca j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560" y="-306000"/>
            <a:ext cx="112680" cy="12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181080" y="549000"/>
            <a:ext cx="9506160" cy="32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vit slnka stráca ja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černý sa blíži 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uch sa k Bohu povzniesť smi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d pozemské trápenie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deň sobotný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133200" cy="1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nešený a svätý Stvoriteľ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besá nám zvestujú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ju sláv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lásajú moc preveľkú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79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rca náš, čo stvoril svet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prestáva strážne bdie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áci mieru určil s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dpočinok praje n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deň sobotn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48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nešený a svätý Stvoriteľ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besá nám zvestujú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ju sláv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lásajú moc preveľkú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zvesti Slova pravdy ná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íta Božej lásky hl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lovo spásy radost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mieme počuť z milost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deň sobotn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nešený a svätý Stvoriteľ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besá nám zvestujú tvoju sláv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lásajú moc preveľkú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riechu noc sa pomini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ňou aj všetko súženi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nikne raz smrti tie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itne  slávy večný de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eň sobotn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nešený a svätý Stvoriteľ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besá nám zvestuj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ju sláv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lásajú moc preveľk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_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16:56:09Z</dcterms:created>
  <dc:creator>Stano Slamka</dc:creator>
  <dc:description/>
  <dc:language>en-US</dc:language>
  <cp:lastModifiedBy>DUMAS Ing. Dušan Bielik</cp:lastModifiedBy>
  <dcterms:modified xsi:type="dcterms:W3CDTF">2025-09-04T13:51:47Z</dcterms:modified>
  <cp:revision>5</cp:revision>
  <dc:subject/>
  <dc:title>301  Keď svit slnka stráca jas</dc:title>
</cp:coreProperties>
</file>